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5838825" cy="8542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5839200" cy="85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530440" cy="428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marL="216000"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308040" y="-360"/>
            <a:ext cx="2530440" cy="428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marL="216000" indent="0" algn="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  <a:defRPr b="0" lang="ja-JP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83720" y="639360"/>
            <a:ext cx="4273560" cy="32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メイリオ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584280" y="4057200"/>
            <a:ext cx="4672080" cy="3845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8113680"/>
            <a:ext cx="2530440" cy="426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marL="216000"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  <a:defRPr b="0" lang="ja-JP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308040" y="8113680"/>
            <a:ext cx="2530440" cy="426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marL="216000" indent="0" algn="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  <a:defRPr b="0" lang="ja-JP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fld id="{F1139E5C-9387-490C-9617-178C3940D307}" type="slidenum">
              <a:rPr b="0" lang="ja-JP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785880" y="639720"/>
            <a:ext cx="4271760" cy="32036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82120" y="4057200"/>
            <a:ext cx="4675320" cy="384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77760" rIns="77760" tIns="38880" bIns="38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presentation is two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introduction of Japanese grid data system, and Second is case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7337-4FFB-4A3F-9422-25D33BFE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9492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894A-F816-454F-B6E3-24ED3668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088C-3A39-4101-8E70-125C57F2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27BC-F2D3-4596-85B8-D04BA104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4365-3509-4053-8837-340A5761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9492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9492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485A-E711-4977-A4D2-F01FA61C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37A3-9D14-44E1-952B-EAEC655D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3372-33DB-41F8-8395-A0B347D2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A2CC-C6CE-4FF8-8A12-F72D5410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161C-B32A-4BFA-8DD3-61D25CFC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E51FE-3E40-42FB-9626-CC3C64FB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9492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F9A9-6133-4A12-B776-3E4D703B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905160" y="6305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4B45-1B78-493F-AB5A-CC1CE28DEA22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28584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12920" y="141120"/>
            <a:ext cx="87310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505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09680" y="135000"/>
            <a:ext cx="137880" cy="141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47560" y="0"/>
            <a:ext cx="139680" cy="1382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560" y="135000"/>
            <a:ext cx="139680" cy="141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74680" y="274680"/>
            <a:ext cx="136440" cy="1382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1760" y="136440"/>
            <a:ext cx="141120" cy="138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09680" y="271440"/>
            <a:ext cx="137880" cy="138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74680" y="409680"/>
            <a:ext cx="136440" cy="136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メイリオ"/>
              </a:rPr>
              <a:t>Click to edit the title text format</a:t>
            </a: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99"/>
              </a:spcBef>
              <a:buClr>
                <a:srgbClr val="0000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  <a:p>
            <a:pPr lvl="1" marL="1047600" indent="-380880">
              <a:spcBef>
                <a:spcPts val="799"/>
              </a:spcBef>
              <a:buClr>
                <a:srgbClr val="0000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  <a:p>
            <a:pPr lvl="2" marL="1619280" indent="-285840">
              <a:spcBef>
                <a:spcPts val="799"/>
              </a:spcBef>
              <a:buClr>
                <a:srgbClr val="0000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  <a:p>
            <a:pPr lvl="3" marL="2190600" indent="-285480">
              <a:spcBef>
                <a:spcPts val="799"/>
              </a:spcBef>
              <a:buClr>
                <a:srgbClr val="00007d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  <a:p>
            <a:pPr lvl="4" marL="2666880" indent="-2854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  <a:p>
            <a:pPr lvl="5" marL="2666880" indent="-285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  <a:p>
            <a:pPr lvl="6" marL="2666880" indent="-285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1268280"/>
            <a:ext cx="9144000" cy="730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7c80"/>
              </a:gs>
              <a:gs pos="100000">
                <a:srgbClr val="ff505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ftr" idx="3"/>
          </p:nvPr>
        </p:nvSpPr>
        <p:spPr>
          <a:xfrm>
            <a:off x="1557360" y="634356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ja-JP" sz="1200" spc="-1" strike="noStrike">
                <a:solidFill>
                  <a:srgbClr val="00007d"/>
                </a:solidFill>
                <a:latin typeface="Lucida Sans Unicode"/>
                <a:ea typeface="HGPｺﾞｼｯｸ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200" spc="-1" strike="noStrike">
                <a:solidFill>
                  <a:srgbClr val="00007d"/>
                </a:solidFill>
                <a:latin typeface="Lucida Sans Unicode"/>
                <a:ea typeface="HGPｺﾞｼｯｸ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505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16120" y="1679400"/>
            <a:ext cx="7427880" cy="25336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7c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3120" y="3571920"/>
            <a:ext cx="576360" cy="641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16120" y="1668600"/>
            <a:ext cx="574560" cy="6429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1320" y="1044720"/>
            <a:ext cx="585720" cy="6346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1560" y="3571920"/>
            <a:ext cx="583920" cy="64116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1320" y="1679400"/>
            <a:ext cx="585720" cy="64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1560" y="2313000"/>
            <a:ext cx="583920" cy="6332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298600"/>
            <a:ext cx="582480" cy="633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16120" y="2313000"/>
            <a:ext cx="574560" cy="633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3120" y="2936880"/>
            <a:ext cx="576360" cy="644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1560" y="2936880"/>
            <a:ext cx="583920" cy="64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メイリオ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65" name=""/>
          <p:cNvSpPr/>
          <p:nvPr/>
        </p:nvSpPr>
        <p:spPr>
          <a:xfrm>
            <a:off x="6905520" y="6305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E303-0750-45E6-BA8A-3DCB3E093519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38360" y="634356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7d"/>
                </a:solidFill>
                <a:latin typeface="メイリオ"/>
                <a:ea typeface="メイリオ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メイリオ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914400" indent="419040" algn="ctr">
              <a:spcBef>
                <a:spcPts val="601"/>
              </a:spcBef>
              <a:buClr>
                <a:srgbClr val="00007d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3" marL="1371600" indent="53352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1828800" indent="5526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1828800" indent="552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1828800" indent="552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85629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メイリオ"/>
              </a:rPr>
              <a:t>ArcGIS</a:t>
            </a:r>
            <a:r>
              <a:rPr b="0" lang="ja-JP" sz="3200" spc="-1" strike="noStrike">
                <a:solidFill>
                  <a:srgbClr val="ffffff"/>
                </a:solidFill>
                <a:latin typeface="メイリオ"/>
              </a:rPr>
              <a:t>と</a:t>
            </a:r>
            <a:r>
              <a:rPr b="0" lang="ja-JP" sz="3200" spc="-1" strike="noStrike">
                <a:solidFill>
                  <a:srgbClr val="ffffff"/>
                </a:solidFill>
                <a:latin typeface="メイリオ"/>
              </a:rPr>
              <a:t>SIS</a:t>
            </a:r>
            <a:r>
              <a:rPr b="0" lang="ja-JP" sz="3200" spc="-1" strike="noStrike">
                <a:solidFill>
                  <a:srgbClr val="ffffff"/>
                </a:solidFill>
                <a:latin typeface="メイリオ"/>
              </a:rPr>
              <a:t>の比較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メイリオ"/>
              </a:rPr>
              <a:t>―いくつかの分析を通じて―</a:t>
            </a:r>
            <a:endParaRPr b="0" lang="en-US" sz="32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42640" y="4800600"/>
            <a:ext cx="7272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メイリオ"/>
              </a:rPr>
              <a:t>GIS</a:t>
            </a:r>
            <a:r>
              <a:rPr b="0" lang="ja-JP" sz="3000" spc="-1" strike="noStrike">
                <a:solidFill>
                  <a:srgbClr val="000000"/>
                </a:solidFill>
                <a:latin typeface="メイリオ"/>
              </a:rPr>
              <a:t>研究会　</a:t>
            </a:r>
            <a:r>
              <a:rPr b="0" lang="ja-JP" sz="3000" spc="-1" strike="noStrike">
                <a:solidFill>
                  <a:srgbClr val="000000"/>
                </a:solidFill>
                <a:latin typeface="メイリオ"/>
              </a:rPr>
              <a:t>2007</a:t>
            </a:r>
            <a:r>
              <a:rPr b="0" lang="ja-JP" sz="3000" spc="-1" strike="noStrike">
                <a:solidFill>
                  <a:srgbClr val="000000"/>
                </a:solidFill>
                <a:latin typeface="メイリオ"/>
              </a:rPr>
              <a:t>年</a:t>
            </a:r>
            <a:r>
              <a:rPr b="0" lang="ja-JP" sz="3000" spc="-1" strike="noStrike">
                <a:solidFill>
                  <a:srgbClr val="000000"/>
                </a:solidFill>
                <a:latin typeface="メイリオ"/>
              </a:rPr>
              <a:t>9</a:t>
            </a:r>
            <a:r>
              <a:rPr b="0" lang="ja-JP" sz="3000" spc="-1" strike="noStrike">
                <a:solidFill>
                  <a:srgbClr val="000000"/>
                </a:solidFill>
                <a:latin typeface="メイリオ"/>
              </a:rPr>
              <a:t>月</a:t>
            </a:r>
            <a:r>
              <a:rPr b="0" lang="ja-JP" sz="3000" spc="-1" strike="noStrike">
                <a:solidFill>
                  <a:srgbClr val="000000"/>
                </a:solidFill>
                <a:latin typeface="メイリオ"/>
              </a:rPr>
              <a:t>6</a:t>
            </a:r>
            <a:r>
              <a:rPr b="0" lang="ja-JP" sz="3000" spc="-1" strike="noStrike">
                <a:solidFill>
                  <a:srgbClr val="000000"/>
                </a:solidFill>
                <a:latin typeface="メイリオ"/>
              </a:rPr>
              <a:t>日</a:t>
            </a:r>
            <a:endParaRPr b="0" lang="en-US" sz="3000" spc="-1" strike="noStrike">
              <a:solidFill>
                <a:srgbClr val="000000"/>
              </a:solidFill>
              <a:latin typeface="メイリオ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メイリオ"/>
              </a:rPr>
              <a:t>駒木伸比古（空間情報科学分野）</a:t>
            </a:r>
            <a:endParaRPr b="0" lang="en-US" sz="3000" spc="-1" strike="noStrike">
              <a:solidFill>
                <a:srgbClr val="000000"/>
              </a:solidFill>
              <a:latin typeface="メイリオ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メイリオ"/>
              </a:rPr>
              <a:t>nkomaki@geoenv.tsukuba.ac.jp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8000"/>
                </a:solidFill>
                <a:latin typeface="メイリオ"/>
              </a:rPr>
              <a:t>本日の発表内容</a:t>
            </a: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Font typeface="メイリオ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メイリオ"/>
              </a:rPr>
              <a:t>ArcGIS</a:t>
            </a:r>
            <a:r>
              <a:rPr b="0" lang="ja-JP" sz="3200" spc="-1" strike="noStrike">
                <a:solidFill>
                  <a:srgbClr val="000000"/>
                </a:solidFill>
                <a:latin typeface="メイリオ"/>
              </a:rPr>
              <a:t>と</a:t>
            </a:r>
            <a:r>
              <a:rPr b="0" lang="ja-JP" sz="3200" spc="-1" strike="noStrike">
                <a:solidFill>
                  <a:srgbClr val="000000"/>
                </a:solidFill>
                <a:latin typeface="メイリオ"/>
              </a:rPr>
              <a:t>SIS</a:t>
            </a:r>
            <a:r>
              <a:rPr b="0" lang="ja-JP" sz="3200" spc="-1" strike="noStrike">
                <a:solidFill>
                  <a:srgbClr val="000000"/>
                </a:solidFill>
                <a:latin typeface="メイリオ"/>
              </a:rPr>
              <a:t>の製品比較</a:t>
            </a: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Font typeface="メイリオ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メイリオ"/>
              </a:rPr>
              <a:t>両製品による分析デモンストレーション</a:t>
            </a: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Font typeface="メイリオ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メイリオ"/>
              </a:rPr>
              <a:t>まとめ</a:t>
            </a: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6C53-C2E6-4FF7-91F3-0C64CA1005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8000"/>
                </a:solidFill>
                <a:latin typeface="メイリオ"/>
              </a:rPr>
              <a:t>ArcGIS</a:t>
            </a:r>
            <a:r>
              <a:rPr b="0" lang="ja-JP" sz="3600" spc="-1" strike="noStrike">
                <a:solidFill>
                  <a:srgbClr val="008000"/>
                </a:solidFill>
                <a:latin typeface="メイリオ"/>
              </a:rPr>
              <a:t>と</a:t>
            </a:r>
            <a:r>
              <a:rPr b="0" lang="ja-JP" sz="3600" spc="-1" strike="noStrike">
                <a:solidFill>
                  <a:srgbClr val="008000"/>
                </a:solidFill>
                <a:latin typeface="メイリオ"/>
              </a:rPr>
              <a:t>SIS</a:t>
            </a:r>
            <a:r>
              <a:rPr b="0" lang="ja-JP" sz="3600" spc="-1" strike="noStrike">
                <a:solidFill>
                  <a:srgbClr val="008000"/>
                </a:solidFill>
                <a:latin typeface="メイリオ"/>
              </a:rPr>
              <a:t>の比較～開発元ほか</a:t>
            </a: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SIS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1188000" indent="-528120">
              <a:spcBef>
                <a:spcPts val="601"/>
              </a:spcBef>
              <a:buClr>
                <a:srgbClr val="00007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開発：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Cadcrop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（イギリス）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676520" indent="-452520">
              <a:spcBef>
                <a:spcPts val="499"/>
              </a:spcBef>
              <a:buClr>
                <a:srgbClr val="00007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666699"/>
                </a:solidFill>
                <a:uFillTx/>
                <a:latin typeface="メイリオ"/>
              </a:rPr>
              <a:t>http://www.cadcorp.com/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1188000" indent="-528120">
              <a:spcBef>
                <a:spcPts val="601"/>
              </a:spcBef>
              <a:buClr>
                <a:srgbClr val="00007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日本代理店：インフォマティクス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676520" indent="-452520">
              <a:spcBef>
                <a:spcPts val="499"/>
              </a:spcBef>
              <a:buClr>
                <a:srgbClr val="00007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666699"/>
                </a:solidFill>
                <a:uFillTx/>
                <a:latin typeface="メイリオ"/>
              </a:rPr>
              <a:t>http://www.informatix-inc.com/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marL="603360" indent="-603360">
              <a:spcBef>
                <a:spcPts val="700"/>
              </a:spcBef>
              <a:buClr>
                <a:srgbClr val="0000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ArcGIS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1188000" indent="-528120">
              <a:spcBef>
                <a:spcPts val="601"/>
              </a:spcBef>
              <a:buClr>
                <a:srgbClr val="00007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開発：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ESRI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（アメリカ合衆国）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676520" indent="-452520">
              <a:spcBef>
                <a:spcPts val="499"/>
              </a:spcBef>
              <a:buClr>
                <a:srgbClr val="00007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666699"/>
                </a:solidFill>
                <a:uFillTx/>
                <a:latin typeface="メイリオ"/>
              </a:rPr>
              <a:t>http://www.esri.com/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1188000" indent="-528120">
              <a:spcBef>
                <a:spcPts val="601"/>
              </a:spcBef>
              <a:buClr>
                <a:srgbClr val="00007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日本代理店：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ESRI Japan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676520" indent="-452520">
              <a:spcBef>
                <a:spcPts val="499"/>
              </a:spcBef>
              <a:buClr>
                <a:srgbClr val="00007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666699"/>
                </a:solidFill>
                <a:uFillTx/>
                <a:latin typeface="メイリオ"/>
              </a:rPr>
              <a:t>http://www.esrij.com/index.</a:t>
            </a:r>
            <a:r>
              <a:rPr b="0" lang="ja-JP" sz="2000" spc="-1" strike="noStrike" u="sng">
                <a:solidFill>
                  <a:srgbClr val="666699"/>
                </a:solidFill>
                <a:uFillTx/>
                <a:latin typeface="メイリオ"/>
              </a:rPr>
              <a:t>shtm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pic>
        <p:nvPicPr>
          <p:cNvPr id="117" name="Cadcorp%20Logo%202004" descr="http://www.citiesrevealed.com/events/partners/Cadcorp%20Logo%202004.gif"/>
          <p:cNvPicPr/>
          <p:nvPr/>
        </p:nvPicPr>
        <p:blipFill>
          <a:blip r:embed="rId1"/>
          <a:stretch/>
        </p:blipFill>
        <p:spPr>
          <a:xfrm>
            <a:off x="6324480" y="16002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m_logo" descr="画像ファイル &quot;http://www.informatix-inc.com/top/images/m_logo.gif&quot; は壊れているため、表示できませんでした。"/>
          <p:cNvPicPr/>
          <p:nvPr/>
        </p:nvPicPr>
        <p:blipFill>
          <a:blip r:embed="rId2"/>
          <a:stretch/>
        </p:blipFill>
        <p:spPr>
          <a:xfrm>
            <a:off x="6553080" y="3179880"/>
            <a:ext cx="2246400" cy="730080"/>
          </a:xfrm>
          <a:prstGeom prst="rect">
            <a:avLst/>
          </a:prstGeom>
          <a:ln w="0">
            <a:noFill/>
          </a:ln>
        </p:spPr>
      </p:pic>
      <p:pic>
        <p:nvPicPr>
          <p:cNvPr id="119" name="esri" descr="http://www.ec-gis.org/Workshops/12ec-gis/images/esri.gif"/>
          <p:cNvPicPr/>
          <p:nvPr/>
        </p:nvPicPr>
        <p:blipFill>
          <a:blip r:embed="rId3"/>
          <a:stretch/>
        </p:blipFill>
        <p:spPr>
          <a:xfrm>
            <a:off x="7162920" y="4343400"/>
            <a:ext cx="1117440" cy="1359000"/>
          </a:xfrm>
          <a:prstGeom prst="rect">
            <a:avLst/>
          </a:prstGeom>
          <a:ln w="0">
            <a:noFill/>
          </a:ln>
        </p:spPr>
      </p:pic>
      <p:pic>
        <p:nvPicPr>
          <p:cNvPr id="120" name="esrilogo" descr="http://www.mapshop.co.jp/gis/esri/img/esrilogo.gif"/>
          <p:cNvPicPr/>
          <p:nvPr/>
        </p:nvPicPr>
        <p:blipFill>
          <a:blip r:embed="rId4"/>
          <a:stretch/>
        </p:blipFill>
        <p:spPr>
          <a:xfrm>
            <a:off x="5486400" y="5943600"/>
            <a:ext cx="320040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9274-32CC-4356-92FD-5B530D6292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8000"/>
                </a:solidFill>
                <a:latin typeface="メイリオ"/>
              </a:rPr>
              <a:t>ArcGIS</a:t>
            </a:r>
            <a:r>
              <a:rPr b="0" lang="ja-JP" sz="3600" spc="-1" strike="noStrike">
                <a:solidFill>
                  <a:srgbClr val="008000"/>
                </a:solidFill>
                <a:latin typeface="メイリオ"/>
              </a:rPr>
              <a:t>と</a:t>
            </a:r>
            <a:r>
              <a:rPr b="0" lang="ja-JP" sz="3600" spc="-1" strike="noStrike">
                <a:solidFill>
                  <a:srgbClr val="008000"/>
                </a:solidFill>
                <a:latin typeface="メイリオ"/>
              </a:rPr>
              <a:t>SIS</a:t>
            </a:r>
            <a:r>
              <a:rPr b="0" lang="ja-JP" sz="3600" spc="-1" strike="noStrike">
                <a:solidFill>
                  <a:srgbClr val="008000"/>
                </a:solidFill>
                <a:latin typeface="メイリオ"/>
              </a:rPr>
              <a:t>の比較～特徴</a:t>
            </a: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SIS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1200240" indent="-533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行政・教育機関・研究機関・建設・不動産業界などで利用されている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1200240" indent="-533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Map Viewer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，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Map Manager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，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Map Modeller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の３つのレベル製品が用意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ArcGIS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1200240" indent="-533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GIS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研究機関，行政などで利用されている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1200240" indent="-533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ArcView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，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ArcEditor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，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ArcInfo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の３つのレベル製品がリリースされている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1200240" indent="-533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高度な分析機能は「エクステンション」として別途用意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120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2DE8-D984-4018-A5FD-6D3E8B973E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8000"/>
                </a:solidFill>
                <a:latin typeface="メイリオ"/>
              </a:rPr>
              <a:t>ArcGIS</a:t>
            </a:r>
            <a:r>
              <a:rPr b="0" lang="ja-JP" sz="3600" spc="-1" strike="noStrike">
                <a:solidFill>
                  <a:srgbClr val="008000"/>
                </a:solidFill>
                <a:latin typeface="メイリオ"/>
              </a:rPr>
              <a:t>と</a:t>
            </a:r>
            <a:r>
              <a:rPr b="0" lang="ja-JP" sz="3600" spc="-1" strike="noStrike">
                <a:solidFill>
                  <a:srgbClr val="008000"/>
                </a:solidFill>
                <a:latin typeface="メイリオ"/>
              </a:rPr>
              <a:t>SIS</a:t>
            </a:r>
            <a:r>
              <a:rPr b="0" lang="ja-JP" sz="3600" spc="-1" strike="noStrike">
                <a:solidFill>
                  <a:srgbClr val="008000"/>
                </a:solidFill>
                <a:latin typeface="メイリオ"/>
              </a:rPr>
              <a:t>の比較～扱えるデータ</a:t>
            </a: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SIS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1200240" indent="-533520">
              <a:spcBef>
                <a:spcPts val="601"/>
              </a:spcBef>
              <a:buClr>
                <a:srgbClr val="00007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読み込み・書き出しともに非常に多くのデータ形式をサポートしており，直接扱うことができる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693800" indent="-457200">
              <a:spcBef>
                <a:spcPts val="499"/>
              </a:spcBef>
              <a:buClr>
                <a:srgbClr val="00007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666699"/>
                </a:solidFill>
                <a:uFillTx/>
                <a:latin typeface="メイリオ"/>
              </a:rPr>
              <a:t>http://www.informatix-inc.com/sis/products/sis/data/data_in62.htm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ArcGIS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1200240" indent="-533520">
              <a:spcBef>
                <a:spcPts val="601"/>
              </a:spcBef>
              <a:buClr>
                <a:srgbClr val="00007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SIS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と同じく多くのデータ形式をサポートしているが，実際はシェープ形式（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*.shp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）への変換が必要？（実経験に基づく）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693800" indent="-457200">
              <a:spcBef>
                <a:spcPts val="499"/>
              </a:spcBef>
              <a:buClr>
                <a:srgbClr val="00007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666699"/>
                </a:solidFill>
                <a:uFillTx/>
                <a:latin typeface="メイリオ"/>
              </a:rPr>
              <a:t>http://www.esrij.com/gis_data/readformat/arcgisread.</a:t>
            </a:r>
            <a:r>
              <a:rPr b="0" lang="ja-JP" sz="2000" spc="-1" strike="noStrike" u="sng">
                <a:solidFill>
                  <a:srgbClr val="666699"/>
                </a:solidFill>
                <a:uFillTx/>
                <a:latin typeface="メイリオ"/>
              </a:rPr>
              <a:t>shtm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3517-7297-43C4-B916-80AF328EBA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8000"/>
                </a:solidFill>
                <a:latin typeface="メイリオ"/>
              </a:rPr>
              <a:t>両製品のデモンストレーション</a:t>
            </a: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Font typeface="メイリオ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メイリオ"/>
              </a:rPr>
              <a:t>全国市町村データを用いた一世帯あたりの人数分析（属性による計算分析）</a:t>
            </a: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Font typeface="メイリオ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ccce6"/>
                </a:solidFill>
                <a:latin typeface="メイリオ"/>
              </a:rPr>
              <a:t>つくば市におけるコンビニ商圏のカバー状況（オーバーレイによる空間分析）</a:t>
            </a: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B379-049F-49FD-8912-5FD9729C34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8000"/>
                </a:solidFill>
                <a:latin typeface="メイリオ"/>
              </a:rPr>
              <a:t>まとめ　（１）</a:t>
            </a: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99"/>
              </a:spcBef>
              <a:buClr>
                <a:srgbClr val="0000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メイリオ"/>
              </a:rPr>
              <a:t>ArcGIS</a:t>
            </a:r>
            <a:r>
              <a:rPr b="0" lang="ja-JP" sz="3200" spc="-1" strike="noStrike">
                <a:solidFill>
                  <a:srgbClr val="000000"/>
                </a:solidFill>
                <a:latin typeface="メイリオ"/>
              </a:rPr>
              <a:t>と</a:t>
            </a:r>
            <a:r>
              <a:rPr b="0" lang="ja-JP" sz="3200" spc="-1" strike="noStrike">
                <a:solidFill>
                  <a:srgbClr val="000000"/>
                </a:solidFill>
                <a:latin typeface="メイリオ"/>
              </a:rPr>
              <a:t>SIS</a:t>
            </a:r>
            <a:r>
              <a:rPr b="0" lang="ja-JP" sz="3200" spc="-1" strike="noStrike">
                <a:solidFill>
                  <a:srgbClr val="000000"/>
                </a:solidFill>
                <a:latin typeface="メイリオ"/>
              </a:rPr>
              <a:t>とでは，分析可能項目にあまり違いはなさそう？</a:t>
            </a: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  <a:p>
            <a:pPr marL="380880" indent="-380880">
              <a:spcBef>
                <a:spcPts val="799"/>
              </a:spcBef>
              <a:buClr>
                <a:srgbClr val="0000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メイリオ"/>
              </a:rPr>
              <a:t>ソフトの操作は異なるが，慣れの問題でどちらが操作しやすい，ということはなさそう</a:t>
            </a: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  <a:p>
            <a:pPr marL="380880" indent="-380880">
              <a:spcBef>
                <a:spcPts val="799"/>
              </a:spcBef>
              <a:buClr>
                <a:srgbClr val="0000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メイリオ"/>
              </a:rPr>
              <a:t>SIS</a:t>
            </a:r>
            <a:r>
              <a:rPr b="0" lang="ja-JP" sz="3200" spc="-1" strike="noStrike">
                <a:solidFill>
                  <a:srgbClr val="000000"/>
                </a:solidFill>
                <a:latin typeface="メイリオ"/>
              </a:rPr>
              <a:t>のほうが直接読み込み可能なデータが多い→</a:t>
            </a:r>
            <a:r>
              <a:rPr b="0" lang="ja-JP" sz="3200" spc="-1" strike="noStrike">
                <a:solidFill>
                  <a:srgbClr val="000000"/>
                </a:solidFill>
                <a:latin typeface="メイリオ"/>
              </a:rPr>
              <a:t>GIS</a:t>
            </a:r>
            <a:r>
              <a:rPr b="0" lang="ja-JP" sz="3200" spc="-1" strike="noStrike">
                <a:solidFill>
                  <a:srgbClr val="000000"/>
                </a:solidFill>
                <a:latin typeface="メイリオ"/>
              </a:rPr>
              <a:t>ソフト＋データ変換ソフトとしてみなすこともできる</a:t>
            </a: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58529-D0DB-4EF5-9B62-353AA7A906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8000"/>
                </a:solidFill>
                <a:latin typeface="メイリオ"/>
              </a:rPr>
              <a:t>まとめ　（２）</a:t>
            </a:r>
            <a:endParaRPr b="0" lang="en-US" sz="3600" spc="-1" strike="noStrike">
              <a:solidFill>
                <a:srgbClr val="008000"/>
              </a:solidFill>
              <a:latin typeface="メイリオ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メイリオ"/>
              </a:rPr>
              <a:t>Windows Vista</a:t>
            </a:r>
            <a:r>
              <a:rPr b="0" lang="ja-JP" sz="3200" spc="-1" strike="noStrike">
                <a:solidFill>
                  <a:srgbClr val="000000"/>
                </a:solidFill>
                <a:latin typeface="メイリオ"/>
              </a:rPr>
              <a:t>への対応</a:t>
            </a: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  <a:p>
            <a:pPr lvl="1" marL="1047600" indent="-380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SIS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：ホームページにおいて動作状況を確認済み（動作保障ではない）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1047600" indent="-380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ArcGIS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：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2007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年末に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9.2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のパッチを公開予定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メイリオ"/>
              </a:rPr>
              <a:t>学生利用への対応</a:t>
            </a:r>
            <a:endParaRPr b="0" lang="en-US" sz="3200" spc="-1" strike="noStrike">
              <a:solidFill>
                <a:srgbClr val="000000"/>
              </a:solidFill>
              <a:latin typeface="メイリオ"/>
            </a:endParaRPr>
          </a:p>
          <a:p>
            <a:pPr lvl="1" marL="1047600" indent="-380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SIS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：「学割ライセンス」にて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年間で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24,150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円で利用可能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1047600" indent="-380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ArcGIS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：対応なし？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F3E5-271E-48AA-B60D-A202D3ADA0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05:11:03Z</dcterms:created>
  <dc:creator>空間情報科学分野</dc:creator>
  <dc:description/>
  <dc:language>en-US</dc:language>
  <cp:lastModifiedBy>Nobuhiko KOMAKI</cp:lastModifiedBy>
  <cp:lastPrinted>2008-06-16T02:23:56Z</cp:lastPrinted>
  <dcterms:modified xsi:type="dcterms:W3CDTF">2008-06-20T06:45:10Z</dcterms:modified>
  <cp:revision>347</cp:revision>
  <dc:subject/>
  <dc:title>ArcGISとSISの比較 ―いくつかの分析を通じて―</dc:title>
</cp:coreProperties>
</file>